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1F5-2359-4683-8FA9-85C0C7AA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A11-42B2-4A5E-AE11-E91D6910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300C1-FB23-43CA-887E-E3593E1F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F5FF2-25A8-4DDB-A546-32EB0699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815BC-D494-4CB3-B9E1-6E7F13B3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2FF1F-1BA1-4166-98DA-4D1A6A7A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58927-E3BC-42F9-ACA6-53A9CE14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B6DEC-6906-44CB-90DD-96B88D6A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B78A3-1C8D-49E5-957C-7ECC3C03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498DA-FC73-4977-8511-731E9638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A33DF-FCAE-41ED-862E-6BAE0D2D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7E390-727C-40E6-A3D6-DC3E9328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F18-4B65-4AE5-8946-C1898B1D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EEDFD-6E71-4DA9-A90D-42D85810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23C2B-BBCB-4C44-8E04-1599AC6F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FC381-6CD8-46D9-97D9-282B93A1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CC6E0-0165-4D5A-9973-E214E46B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99A9E-6077-4625-A19C-8974C66C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17813-4251-4614-AA41-3BB0C2CC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C6872-63AE-4218-BCB2-157AAE01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E5F1A-6F32-427D-AED0-43BCE288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5EA07-36D4-4BFD-9958-3F44C6CA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2F931-849A-4BB7-8F0B-1FB3614F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988-92DB-4C55-9BDE-12B11DFD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9A641-FFED-457D-96CF-9FE35750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D8795-1C11-4156-B8BC-23777199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EE5BB-1530-4347-A1FA-69EC325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F8197-E037-45EB-848E-9331EFEA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28356-CAAC-458E-980F-5E69B41F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6DBF7-8007-4A8E-904F-16097958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7486A-A91A-4940-8E6E-B726CE6A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8F175-86AC-4811-B320-F33C148F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DE5D6-1437-465D-AE09-94BE4450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3B211-5B6D-483F-9D3E-9568AD13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0962-501C-41ED-BD82-9D1D66D5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89444-8E7E-44DC-A121-EE8C8008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35B26-785A-4C7E-8957-39757CC7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C844D-4036-4476-91AF-8202E506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71BBF-1B93-4CB9-B7B0-86780121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A09C1-5546-4234-A45A-961EDEC8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F5AFC-E7CE-4954-B82F-F921A54C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7EF5D-2FC2-4AF9-9EDD-DDA1BC6F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0AB6C-CA49-431D-B419-9EBE32FE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D78F2-C9B8-4F68-ABF5-F4A05F26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5428B-B363-4984-A717-B964C43B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3362-4DDD-4847-A2B2-A70E25E8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BC06F-7D32-426D-ADC8-1E8675E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F05F2-FCD0-4580-A284-3FE1463F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B7579-2887-4589-AA65-72582637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974CE-4247-4B78-A8E6-77EBFA30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ABB08-D62F-4E89-8EAC-FFB79657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D8C30-DA5C-4ED7-9804-65DC9E10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47C5B-02F8-4398-9388-9795A43F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E7B36-3B29-4D2E-AE5F-1E9557DF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70A34-5ADE-40B0-BE68-74FBB57F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0D2B7-AE65-438D-B921-02EF4BA1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19DD-1E61-4794-8B1E-E7B5BBA7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FE4F9-8A0A-4658-B26C-403D2590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FC79D-C1F4-4BF4-9515-CDDC490C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286DC-DFB3-4280-A36A-5531F36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1A29D-8E1C-41CD-815B-33D5D2E4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52BAD-3D21-4F7B-84E6-89EFE6A0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28831-E09E-49F8-9C2C-5710E346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19761-C54C-4891-B33E-B4DFEBFF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918C7-76FB-4B25-8AB3-8E2B9737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91DC9-1910-4BCC-A67C-11577A5B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F1E2E-AFB2-44D4-AE45-58CCF3B9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8D7C-9060-49DD-8293-6A363902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828F5-8921-4566-A9C6-1116E9FF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14461-C4AC-4BB0-953C-DA685BA4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6EED5-6A53-412E-831E-0EFB2F03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4318C-F2B8-4FBB-8F3B-F3DC7860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A91DF-5D56-45B6-8322-C62F316E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A07F2-DC79-414E-A940-0B1F9B31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2FAEB-2FDC-49E8-AF48-BB572E21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C6A7A-3525-4D68-929A-3714BE94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6FCD8-0F7E-45E8-B6FC-1E4A8744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AF510D-674B-4F8D-A5E1-3CCE79E3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081F-10C3-4619-A653-881DA70B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039CB-3CD0-4BAA-9E77-83856E1F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3B7DD-EF29-42ED-B124-1ABF5DFF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87CC1-06BA-4392-8260-1E63A9B6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2580D-64E8-4A57-A134-3B30276C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036E9-787E-4E1D-BBFA-748E7FFF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84105-3D4B-493D-B861-E20A104A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4A3A2-0B40-4955-9CAD-545ABFB2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11E6F-59B2-4540-8A32-380CB982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D4DFB-C285-4348-B993-5AD70057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BD929-CF3C-4645-B50A-0EEE9865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9899-C12F-4613-B630-7A07C7F7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D853A-6077-4418-86E8-9E685AC1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D8D2D-3AD9-46B1-8EF8-BEA16CCB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8F212-4935-4988-830B-CD20E892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DA749-09AE-4657-B7EC-F44F6FB1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CF201-A294-4660-A92F-BE84966B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382BD-878D-4DF4-886E-F2F97D79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48847-B13C-4C09-830C-3531740F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E6802-8849-4884-ADC1-5A8D1F5A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940F8-3830-4EA0-8837-AF280B06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E57D7-DC29-4639-AD26-83F07168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3005-47B7-44D9-BD47-48A325D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817F7-9A9E-41D6-90F0-DC206BD0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F631C-3643-41FF-AF29-10FAC3D5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12564-B3C9-43D9-B62F-D3DFD657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018EE-ADD9-4FA7-A169-29F10C9A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4BD41-CED7-4E4E-95B3-6F1CF123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016333-EFE5-4D2B-A11E-72508AE3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8597D-2407-42E0-A49B-E6EC2A32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906B66-0F4A-492A-AF7C-A3573AF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57C718-B08A-4F3C-83F5-B7F61F81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90E3F-9611-4FD4-ADBF-9354F1C3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CE3-FC14-4768-AA6A-BEFC05E5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C005-AE63-4354-89FE-62BA63FA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F285F-CC6C-4ADF-876D-9E6CAEA0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7702A-3C17-4129-AE45-37B0668F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06A31-5A0A-46EA-B79D-5F5A0DC9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131E8-D7B5-445D-A44F-7C693B50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58C1A-00A7-4DFE-97AF-15784223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D2FB3-B33A-4F24-A6BE-43DAFC27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98863-7B75-497B-BAAC-179F08FF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490F5-9957-4595-9FBD-BF526558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34B14-781F-4756-9E12-BE5AE7D6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173DC-C4E7-48B1-B58A-464D0905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5BCC-F20C-4598-B46B-BEC69DC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0A893-F8B0-400C-975A-71DFCFE3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96C0D-0035-4885-8A20-58CC494E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CBD7B-4ECB-4DC6-A60F-22BCB2BF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7FE2D-D850-4A93-ABEC-67A770FC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6516E-3FE4-49D5-973D-57FF289E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06D73-FD2B-420E-8B13-DCD8CCFE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A339E-38D8-4B16-838D-DE5158D3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2F7F25-35F4-47D7-A049-593E3994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4D8B06-99E9-4FD2-B17F-E00E7304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60902D-9694-436F-B7B5-C13F09CC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7E3A-4CFC-40B2-9FD0-4AF5D64E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DA0708-73EE-4EAC-9E6B-4D6F41B8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441B16-68E2-47D4-9146-F1C6FEB3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DA0A66-45FE-42E6-B399-54D3E3BE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7A1D1-38E7-4195-82DC-B738F57F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E3CE2E-A1BC-4A81-88C9-717EC280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D62407-CD4A-4BC3-BE1F-9273B8D8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11545C-267C-4304-9960-AAD6973B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09F21-6292-40A8-A653-3A7FC646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9F285-D961-4182-A4DA-B52E17F0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D823F-44EB-4AB7-90F4-38FCACFD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32F3-356B-4F19-8123-7C1C2012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4FE2F-40E9-488A-B7DA-FAA84178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099A8C-5CA6-4D3C-911F-1E79C96F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60DCF2-41AD-4008-AC4E-8882C105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4D737-DC21-48DC-B6B7-C455542F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A221B-71AA-4C51-A7E5-72B9CF76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BB905C-5A5B-4840-86DF-CBBA4119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3F483-F7DE-4231-BC4D-1513AC03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213ECE-FE3B-4597-8017-D0628C1F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C34B9B-ED0A-471A-A237-C0B76A23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F825D-40EA-4C2A-B964-B621BF48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D813-AE33-4ED7-8CD5-03F499D9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E17C5-3AC8-47D5-B7D7-03A29DB2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86C91A-7C14-4782-93C8-CD0623CA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29EDBF-5606-46EB-902F-E1CC139C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E7E77-7CC0-4BBD-A83C-911E0A98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412C59-6F3C-44B8-BBB0-78206C56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E386EB-31D8-43AF-9BCC-8A0934E9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CF3B23-EF09-41C3-B2CE-723F8687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9F56DE-D523-4063-BD5E-EE1C19FC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54F67D-0C0A-4B6F-8631-20BEB196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7696B1-1546-46FD-91CD-AF81D0ED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73E2-1B48-4749-9F87-70045472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E6453A-843A-4170-AE4D-E9548410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872578-DDA6-4AA7-B7A3-E801B3C9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B43C2D-DA11-41EB-A7F1-25CADC61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9AF6-F75A-41AE-B908-B0FE74EF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11FF-36A3-4C8B-8DE5-240F71B6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0BDE-4A88-45FF-A235-EA46D8A8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A65B-C4FC-4C15-A196-8E9AAB9D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9A1-7166-4672-AC0C-C6E8CC9C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F2AD-B0C4-4387-8CB6-03303B40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4CAF-BC35-4779-BD24-CB0DFB9F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C5D6-7B5B-4999-A826-8245EDE2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B4B7-1EA5-4CDE-ADA5-84DB0226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B9C8-353F-4309-BBDC-8B6B2CBD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F10F-2D75-4BE9-BA4D-DA233F65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E22D-FB27-4690-8960-03766B88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986B3-4A75-494E-A2E6-57E4BA54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1240D-2C17-4F13-8A90-68A78E40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DEDE-4439-4355-8AE3-C9566649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22C-3CAE-4CD9-B81C-B8ACE1DF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049B8-3E92-44A6-B86A-6BBBAEB5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7BA86-8636-4381-8EF6-6C3B98DC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3E09-2688-4BF2-9565-95FC0CBD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C8D8-6426-4896-B40E-4D82F4AD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37C49-6C09-4FB8-BF2B-F515EC41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E446-2F1D-4133-AF40-17D6C1F0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D087-9DB9-4F19-93A5-FFEFE207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CBD9-C769-46FA-8CE3-24DE043E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824E0-11EB-4CAF-AF08-254D4457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D8EBC-A664-421C-9CB8-605675CC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228-FC4D-448F-89BE-CC4EFEC2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B3C77-A3C3-4066-B0A8-6594D7D7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4AE40-4D7E-4DEA-B276-DAE93639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86721-F018-46D6-9B06-6F224FC4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8C8F5-7C10-4C93-93C0-F8CF39F2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5AF27-1AA0-4DD3-A2ED-EAC10E5E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390A-A125-4314-ACB5-E51F8975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EFFC-37F1-4E30-8F91-1984BC02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35D17-BA51-42E3-AE66-5A13D544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A15AB-8154-494B-8F39-6C10DF94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7CC9-13F4-4DEB-AEE9-5BAE79FC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F68-F933-4561-9454-FCE18A0D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F58C5-A55D-4848-B3FC-4BDC6C15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14413-032C-4AF3-A948-8DE814BD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C1F1E-99CC-42AA-8BEF-22624A21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9BA85-14AA-4BB5-B178-A0E79154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BCD6C-FFB8-4084-8475-B8E3D365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D5C5C-F07E-41BE-91F6-C74028BB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C951-75D7-4193-829F-40395A6A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4267-2061-4988-935E-CA263EA5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31907-FC4F-477B-AA11-7E8AA4AF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FD3E8-2262-43DB-8EF3-5B11D1D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20D9-B3F4-4C21-AC2A-B1A0842C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05A67-DEEF-419A-8A12-3582D0F4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D2B92-58EA-4C97-8017-3FAC9D5E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B4375-F006-444E-877F-528420CB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C1B8D-0396-4846-A35B-11BC715E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0B117-A8E2-406D-93E4-9F7200A8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208BC-9B5F-4CE7-B773-41E3D99D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07FB6-D469-4296-BC84-1B02CD61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E9B0C-A7D5-4062-B5B2-69302F7C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3F77F-97B3-4A52-987C-8EE43631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960A8-F2CE-434D-9DC9-5D0B57F6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64A-D18A-4C3B-BF2A-0DFA40DD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AB196-C01E-4BD2-9835-CED6DF5E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3EF61-E4BE-4A65-9127-B16A5F23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56605-F499-4135-B363-1A8AE146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C5D88-6619-4C89-90D4-47B38798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4F437-6D38-4716-8A86-1CC8598A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93112-6EE8-4F0A-923C-688892F8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F9F52-A0A2-4FD8-A1EB-EB1AC087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C90E2-30DC-4BD0-8ABC-DE7650D9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76134-1B36-42FA-A913-7ABE71DC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C7A57-6230-4C9A-ADD6-AA0A071C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880-836E-49A0-A380-F047AD50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0CCBF-5715-409B-A3DB-61492833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74603-DCE2-4EF8-A9FF-486185D8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E65DF-16BE-467B-AF8C-2F6EFC54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E2670-DF5C-44AA-B1FE-549AE1F9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27E05-5672-42CF-8711-6329D62E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8A5BE-57D3-42F4-A8FF-EBF0993D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99701-1521-4E15-A057-F9DC06E5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62589-BD6A-4449-81F8-C721CE82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B0E5E-7A20-442F-8ECF-3E408B44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5E143-E96E-402E-AFE0-32664B42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A58B-D262-4DEE-AA5A-568BD766DC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C77D-39BB-49A6-8217-DB7B803EA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2C12-1D99-47FB-9AA1-8E887EEDA5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A5F7-4BC0-41B4-B607-98FAF83DDD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1BDC-78B9-4E96-A65D-151399D669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6145-DFAC-4D2A-BD89-013C67FE0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A62D-4D20-4B9E-A64B-A564194406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60BA-B208-46E8-AC4A-C97B5838B0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C803-1BF8-4FAD-93AB-0A947685D7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CB33-3CF3-4DC6-BFFD-4DB50C9D81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F698-B32C-417A-BC1C-2CB9C6359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2265-9847-457E-BE84-61BEF6AAC4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926B-DDA6-4B13-938D-B3EC27161A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5A15-1B8E-42AF-9B5D-42E4D64D1F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DD4A-14FE-4EA8-8640-3223E29DC2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75D1-F18F-4020-82CF-A767598940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29C9-5F6C-453A-8B5A-6F34FDC13C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900F-D7D3-4187-A3A8-3D6EE2E0BE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4A3F-6F29-436A-A68B-96EE0A3198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8628-7D85-4281-80C1-9C53039B40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E8DF-A74B-4B8D-9068-49EC6B09B1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99FC-CF31-41BD-96D4-35AF43AB90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3A37-7A8B-4564-9E77-20DE72C3EF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5661-7941-4198-87F5-A0A7EB0F3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BF44-1E5A-44B8-8DBC-4B6CB479EC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B43A-1910-4051-A2B1-BDC4605812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508C-0D66-4318-AFC8-629C617D42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A433-C8F3-41E9-B0D3-335EFCD9A6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90AA-08ED-4C6F-A385-066B837802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BF1B-6E27-4A1A-AC5B-F7CD8E1B0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FA69-B2F0-41B1-8023-68A003DFD3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8084-A158-4490-84DA-D05DD67BA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1148-0DD5-410F-8176-DF3D2D2B28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B638-5727-402F-820C-FC6B3B924D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ECD8-C944-4757-A684-A0FF14CBF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0F71-2006-438D-8BDE-8F5551A27D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02AB-0EC0-4FEB-891B-434A03E878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3CC8-191E-4DD1-9C28-027191B6D1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2902-EC7F-4EF0-80FB-72263E7455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3925-DE57-4D4D-9D4A-C49335873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852640" y="3143160"/>
            <a:ext cx="34387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7320" y="1390680"/>
            <a:ext cx="8829360" cy="40766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286080" y="2530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700360" y="29242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059280" y="3294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19564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276720" y="4014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700360" y="44038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586400" y="5008680"/>
            <a:ext cx="282600" cy="209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210280" y="5013360"/>
            <a:ext cx="282600" cy="20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940360" y="5013360"/>
            <a:ext cx="282600" cy="209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535800" y="5013360"/>
            <a:ext cx="2826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1028880" y="2119320"/>
            <a:ext cx="7086600" cy="261936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59412" descr=""/>
          <p:cNvPicPr/>
          <p:nvPr/>
        </p:nvPicPr>
        <p:blipFill>
          <a:blip r:embed="rId2"/>
          <a:stretch/>
        </p:blipFill>
        <p:spPr>
          <a:xfrm>
            <a:off x="1460520" y="3063960"/>
            <a:ext cx="89532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59413" descr=""/>
          <p:cNvPicPr/>
          <p:nvPr/>
        </p:nvPicPr>
        <p:blipFill>
          <a:blip r:embed="rId3"/>
          <a:stretch/>
        </p:blipFill>
        <p:spPr>
          <a:xfrm>
            <a:off x="2674800" y="2584440"/>
            <a:ext cx="89532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9414" descr=""/>
          <p:cNvPicPr/>
          <p:nvPr/>
        </p:nvPicPr>
        <p:blipFill>
          <a:blip r:embed="rId4"/>
          <a:stretch/>
        </p:blipFill>
        <p:spPr>
          <a:xfrm>
            <a:off x="3789360" y="3673440"/>
            <a:ext cx="89532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9415" descr=""/>
          <p:cNvPicPr/>
          <p:nvPr/>
        </p:nvPicPr>
        <p:blipFill>
          <a:blip r:embed="rId5"/>
          <a:stretch/>
        </p:blipFill>
        <p:spPr>
          <a:xfrm>
            <a:off x="2690640" y="4363920"/>
            <a:ext cx="8575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166680" y="809640"/>
            <a:ext cx="8810640" cy="5238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528920" y="2286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1538280" y="30160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1528920" y="378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1538280" y="4508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1258920" y="52484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3276720" y="5608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8"/>
          <a:stretch/>
        </p:blipFill>
        <p:spPr>
          <a:xfrm>
            <a:off x="8450280" y="278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9"/>
          <a:stretch/>
        </p:blipFill>
        <p:spPr>
          <a:xfrm>
            <a:off x="8459640" y="321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0"/>
          <a:stretch/>
        </p:blipFill>
        <p:spPr>
          <a:xfrm>
            <a:off x="8459640" y="3592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1"/>
          <a:stretch/>
        </p:blipFill>
        <p:spPr>
          <a:xfrm>
            <a:off x="8459640" y="4014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2"/>
          <a:stretch/>
        </p:blipFill>
        <p:spPr>
          <a:xfrm>
            <a:off x="8459640" y="4417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3"/>
          <a:stretch/>
        </p:blipFill>
        <p:spPr>
          <a:xfrm>
            <a:off x="8532720" y="4807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4"/>
          <a:stretch/>
        </p:blipFill>
        <p:spPr>
          <a:xfrm>
            <a:off x="8459640" y="5176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5"/>
          <a:stretch/>
        </p:blipFill>
        <p:spPr>
          <a:xfrm>
            <a:off x="8450280" y="560880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0:53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